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923-8F29-437F-A353-57D9BDF43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DDFF-054D-48C7-9607-40021BE5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E288-3EC1-4347-84E5-FAA282907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9948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9860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9948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9860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983-3738-4AE6-AC04-317A37857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1E3B-F73C-4E39-BDAE-C679FB6C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5802-E8C6-4222-AA61-C799BDF3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824-057C-490B-9BA2-5C3B869F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BB5-2E3B-48B9-A481-1B1E40BAE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4E67-8C3B-437E-AACA-D28EBBB95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AEA8-ED17-4E1E-8802-6641FEB0A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64C92-A994-4091-88B6-4A416CD7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6ED9-694E-46C9-AE46-6A7FF63F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90C0-8EC1-48C0-9665-69AEA04D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2711-A0AE-46BD-BC46-8870ADF8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6435-F72F-4A73-B979-31BE6F46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A622-BC22-44D5-AE93-ABE887D9D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948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8600" y="37335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948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98600" y="4052160"/>
            <a:ext cx="2379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3DBDC-F72B-4F8B-9917-0061E0BB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8FB-0F99-4CF4-A8C2-588FF1C0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B42-C217-4CCE-AA26-E666AF59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4CC8-E9FB-4D80-8680-6821F8C19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895120"/>
            <a:ext cx="7391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EA89-F3A8-41C4-9598-B7423E4A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CD11-94FB-421C-A9F0-721D3D25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787560" y="40521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B43-49E0-45E4-862F-63B0836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787560" y="3733560"/>
            <a:ext cx="360684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4052160"/>
            <a:ext cx="739152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892C-643F-4D52-8873-00DC711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636A-27E4-450A-8792-102081AC6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89512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5336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5336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F842A-62FE-4625-89C6-E43311FA38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HerbertSimon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Image:Daniel_KAHNEMAN.jp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895480"/>
            <a:ext cx="73915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1d1cb"/>
                </a:solidFill>
                <a:latin typeface="Century Gothic"/>
              </a:rPr>
              <a:t>Bounded rationality, biases and superstitions </a:t>
            </a:r>
            <a:endParaRPr b="0" lang="en-US" sz="40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4581000"/>
            <a:ext cx="73915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Konrad Talmont-Kamins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KLI &amp; UMC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Bias &amp; superstitio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When is bias not superstition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Is a superempirical explanation required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Is it provided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Not very deep difference between superstition and other results of bi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rrelations suggest thi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But superstition harder to get rid of 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A choice of theori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Placing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Dual process theorie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Bounded rationa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Different evaluation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an not identify superstition with a mode of reason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Dual proces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System 1 vs. System 2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Intuitive vs. analytical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vs. classical rationa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ssumes independence of system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Problem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Superstition is ubiquitous and persiste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eople do not seem to swap into system 2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5681520"/>
            <a:ext cx="727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J. Evans, “Dual processing accounts of reasoning, judgement, and social cognition” 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Annual Review of Psychology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0" y="907920"/>
            <a:ext cx="1442880" cy="22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Bounded rationality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onl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But variety of very different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build on each othe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sometimes replace other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Scientific methods are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roblem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How to account for logical ability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G. Harman </a:t>
            </a:r>
            <a:r>
              <a:rPr b="1" i="1" lang="en-AU" sz="2000" spc="-1" strike="noStrike">
                <a:solidFill>
                  <a:srgbClr val="ffffff"/>
                </a:solidFill>
                <a:latin typeface="Century Gothic"/>
              </a:rPr>
              <a:t>Change in View</a:t>
            </a: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 1986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But the same problem for dual proces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520" y="907920"/>
            <a:ext cx="1428840" cy="2133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5681520"/>
            <a:ext cx="727236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H. Simon </a:t>
            </a:r>
            <a:r>
              <a:rPr b="1" i="1" lang="en-US" sz="1800" spc="-1" strike="noStrike">
                <a:solidFill>
                  <a:srgbClr val="ffffff"/>
                </a:solidFill>
                <a:latin typeface="Century Gothic"/>
              </a:rPr>
              <a:t>Models of Bounded Rationality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 1982/199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G. Gigerenzer “I think, therefore I err”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Social Research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Hume, habits and heuristic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David Hume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abits vs. Reaso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The original dual process theory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But problem of inductio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Only habit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Naturalist vs. sceptical read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Heuristics as habit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08000" y="907920"/>
            <a:ext cx="13096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Implication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3 somewhat hypothetical implica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Problem of induction entails we use heuristic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The ubiquity of superstition is evidence for this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Problem of induction does not entail superstitions but can be seen as the ultimate explanati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8136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Thank you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0" y="3573000"/>
            <a:ext cx="73915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konrad@talmont.com</a:t>
            </a:r>
            <a:br>
              <a:rPr sz="2400"/>
            </a:br>
            <a:r>
              <a:rPr b="0" lang="en-AU" sz="2400" spc="-1" strike="noStrike">
                <a:solidFill>
                  <a:srgbClr val="ffffff"/>
                </a:solidFill>
                <a:latin typeface="Century Gothic"/>
              </a:rPr>
              <a:t>http://deisidaimon.wordpress.co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Sugar and cyanid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pic>
        <p:nvPicPr>
          <p:cNvPr id="85" name="" descr="http://www.bestcare-uk.com/shop/image.php?productid=16341"/>
          <p:cNvPicPr/>
          <p:nvPr/>
        </p:nvPicPr>
        <p:blipFill>
          <a:blip r:embed="rId2"/>
          <a:stretch/>
        </p:blipFill>
        <p:spPr>
          <a:xfrm>
            <a:off x="1619280" y="2205000"/>
            <a:ext cx="2351160" cy="2868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http://www.bestcare-uk.com/shop/image.php?productid=16341"/>
          <p:cNvPicPr/>
          <p:nvPr/>
        </p:nvPicPr>
        <p:blipFill>
          <a:blip r:embed="rId3"/>
          <a:stretch/>
        </p:blipFill>
        <p:spPr>
          <a:xfrm>
            <a:off x="6372360" y="2205000"/>
            <a:ext cx="2350800" cy="2868480"/>
          </a:xfrm>
          <a:prstGeom prst="rect">
            <a:avLst/>
          </a:prstGeom>
          <a:ln w="0">
            <a:noFill/>
          </a:ln>
        </p:spPr>
      </p:pic>
      <p:grpSp>
        <p:nvGrpSpPr>
          <p:cNvPr id="87" name=""/>
          <p:cNvGrpSpPr/>
          <p:nvPr/>
        </p:nvGrpSpPr>
        <p:grpSpPr>
          <a:xfrm>
            <a:off x="4500720" y="3645000"/>
            <a:ext cx="1387440" cy="722160"/>
            <a:chOff x="4500720" y="3645000"/>
            <a:chExt cx="1387440" cy="722160"/>
          </a:xfrm>
        </p:grpSpPr>
        <p:pic>
          <p:nvPicPr>
            <p:cNvPr id="88" name="" descr="The image “http://www.uidesign.net/1999/papers/DLP/address18.gif” cannot be displayed, because it contains errors."/>
            <p:cNvPicPr/>
            <p:nvPr/>
          </p:nvPicPr>
          <p:blipFill>
            <a:blip r:embed="rId4"/>
            <a:stretch/>
          </p:blipFill>
          <p:spPr>
            <a:xfrm>
              <a:off x="4500720" y="3645000"/>
              <a:ext cx="13874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 txBox="1"/>
            <p:nvPr/>
          </p:nvSpPr>
          <p:spPr>
            <a:xfrm>
              <a:off x="4621680" y="4008960"/>
              <a:ext cx="1124640" cy="2019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Cyanide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4500720" y="2646360"/>
            <a:ext cx="1387440" cy="722160"/>
            <a:chOff x="4500720" y="2646360"/>
            <a:chExt cx="1387440" cy="722160"/>
          </a:xfrm>
        </p:grpSpPr>
        <p:pic>
          <p:nvPicPr>
            <p:cNvPr id="91" name="" descr="The image “http://www.uidesign.net/1999/papers/DLP/address18.gif” cannot be displayed, because it contains errors."/>
            <p:cNvPicPr/>
            <p:nvPr/>
          </p:nvPicPr>
          <p:blipFill>
            <a:blip r:embed="rId5"/>
            <a:stretch/>
          </p:blipFill>
          <p:spPr>
            <a:xfrm>
              <a:off x="4500720" y="2646360"/>
              <a:ext cx="138744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 txBox="1"/>
            <p:nvPr/>
          </p:nvSpPr>
          <p:spPr>
            <a:xfrm>
              <a:off x="4784760" y="2968920"/>
              <a:ext cx="813960" cy="2023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Sugar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3.87604E-006 C 0.03368 -0.1043 0.06754 -0.20814 0.11337 -0.182 C 0.1592 -0.15564 0.24844 0.10199 0.27552 0.15888 E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0.00948 C -0.02448 -0.14871 -0.04862 -0.30643 -0.08889 -0.30458 C -0.12917 -0.30273 -0.21598 -0.0333 -0.24132 0.02104 E">
                                      <p:cBhvr>
                                        <p:cTn id="10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Aim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To show the relevance of work on superstitions as a natural cognitive phenomenon to conceptions of human reasoning abilitie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nd vice versa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Outline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Contagion heuristic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Superstitions as result of bia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Dual process vs. bounded rationality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Humean habits &amp;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Implication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Sympathetic magic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Frazer </a:t>
            </a:r>
            <a:r>
              <a:rPr b="1" i="1" lang="en-AU" sz="2800" spc="-1" strike="noStrike">
                <a:solidFill>
                  <a:srgbClr val="ffffff"/>
                </a:solidFill>
                <a:latin typeface="Century Gothic"/>
              </a:rPr>
              <a:t>Golden Bough</a:t>
            </a: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 1890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Law of similarity (homeopathy)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Like produces like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Drink blood of an ox to be strong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Law of Contagi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Once in contact, always in contact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Burn nail clippings to hurt their ‘owner’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Incomplete characterisation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Century Gothic"/>
              </a:rPr>
              <a:t>Black cats, broken mirrors, etc.</a:t>
            </a:r>
            <a:endParaRPr b="1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nnection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Homeopathic ‘medicine’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Century Gothic"/>
              </a:rPr>
              <a:t>Germ theory of disease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9" name="" descr="http://cache.eb.com/eb/image?id=24616&amp;rendTypeId=4"/>
          <p:cNvPicPr/>
          <p:nvPr/>
        </p:nvPicPr>
        <p:blipFill>
          <a:blip r:embed="rId2"/>
          <a:stretch/>
        </p:blipFill>
        <p:spPr>
          <a:xfrm>
            <a:off x="179280" y="907920"/>
            <a:ext cx="124776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Contagion as heuristic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Heuristic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 (domain-specific) rule of thumb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Makes sense of the world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romotes adaptive behaviour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2 differences from ‘classic’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Substantive affective compone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eople usually aware of irrationa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9280" y="2781360"/>
            <a:ext cx="1208160" cy="1332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79280" y="907920"/>
            <a:ext cx="1190880" cy="1729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47640" y="56815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Paul Rozin &amp; Carol Nemeroff “Sympathetic magical thinking” in Gilovich, Griffin, Kahneman eds.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Heuristics &amp; Biases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Heuristics &amp; biase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00200" y="91440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Classic heuristics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Representativenes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vailability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nchoring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pplying to superstition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Explaining in terms of bia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Limited possibilitie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"/>
          <p:cNvSpPr/>
          <p:nvPr/>
        </p:nvSpPr>
        <p:spPr>
          <a:xfrm>
            <a:off x="1547640" y="5681520"/>
            <a:ext cx="727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Amos Tversky, Daniel Kahneman “Judgement under uncertainty: heuristics and biases” in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Science 185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197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2565360"/>
            <a:ext cx="1204920" cy="1440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79280" y="981000"/>
            <a:ext cx="11797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Re-engineering Superstition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Broader view of heuristics needed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A philosophical accoun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Emotions as cognitive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nflict between ‘innate’ &amp; learned heuristics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ontagion clearly fits in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Systematic bias as footprint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Empirical research projec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"/>
          <p:cNvSpPr/>
          <p:nvPr/>
        </p:nvSpPr>
        <p:spPr>
          <a:xfrm>
            <a:off x="1547640" y="5681520"/>
            <a:ext cx="7272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Bill Wimsatt, </a:t>
            </a:r>
            <a:r>
              <a:rPr b="1" i="1" lang="en-AU" sz="1800" spc="-1" strike="noStrike">
                <a:solidFill>
                  <a:srgbClr val="ffffff"/>
                </a:solidFill>
                <a:latin typeface="Century Gothic"/>
              </a:rPr>
              <a:t>Re-engineering Philosophy for Limited Beings</a:t>
            </a:r>
            <a:r>
              <a:rPr b="1" lang="en-AU" sz="1800" spc="-1" strike="noStrike">
                <a:solidFill>
                  <a:srgbClr val="ffffff"/>
                </a:solidFill>
                <a:latin typeface="Century Gothic"/>
              </a:rPr>
              <a:t> 200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9280" y="981000"/>
            <a:ext cx="128916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d1d1cb"/>
                </a:solidFill>
                <a:latin typeface="Century Gothic"/>
              </a:rPr>
              <a:t>Systematic bias</a:t>
            </a:r>
            <a:endParaRPr b="0" lang="en-US" sz="4400" spc="-1" strike="noStrike">
              <a:solidFill>
                <a:srgbClr val="d1d1c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99840" y="914040"/>
            <a:ext cx="708660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re all bias-caused errors superstition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No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What’s the difference?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Century Gothic"/>
              </a:rPr>
              <a:t>Are all superstitions bias-caused errors?</a:t>
            </a:r>
            <a:endParaRPr b="1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Probably, category very broad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ffff"/>
                </a:solidFill>
                <a:latin typeface="Century Gothic"/>
              </a:rPr>
              <a:t>Can understand existing work in this theoretical context</a:t>
            </a:r>
            <a:endParaRPr b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2T22:15:01Z</dcterms:created>
  <dc:creator>Konrad Talmont-Kaminski</dc:creator>
  <dc:description/>
  <dc:language>en-US</dc:language>
  <cp:lastModifiedBy>Konrad Talmont-Kaminski</cp:lastModifiedBy>
  <dcterms:modified xsi:type="dcterms:W3CDTF">2008-01-23T11:23:40Z</dcterms:modified>
  <cp:revision>23</cp:revision>
  <dc:subject/>
  <dc:title>Bounded rationality, biases and superstitions </dc:title>
</cp:coreProperties>
</file>