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C0B-7C78-4DA8-8A24-34715D4C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7391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4052160"/>
            <a:ext cx="7391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819-AC8A-4F5F-AFC9-91B2BB25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0521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87560" y="40521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B9E-36EF-4D53-9DC4-F703E74B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99480" y="37335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98600" y="37335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40521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99480" y="40521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98600" y="40521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EFA-A24C-4EA2-ADB7-3AA82BC3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3AB1-1AF5-4332-A617-4972DFDE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75E2-E33F-4B91-9877-F42960F8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9C73-4444-479F-8AEA-E6B8DE92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6540-C600-4A78-B398-70A320A5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5F10-F7D5-4344-8946-1A7C328C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895120"/>
            <a:ext cx="73915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C2F6-FF45-4F1F-9661-75DFAAB9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40521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887B-B2FA-4996-A3E8-054ED33E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E47-6B73-4B3B-AC05-6B3E765E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87560" y="40521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74D4-0900-4062-883E-9647DF03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4052160"/>
            <a:ext cx="7391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916E-1398-419E-91A8-05CA2E47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7391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4052160"/>
            <a:ext cx="7391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0AA1-0325-4627-A0CD-1DB9DCC8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40521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787560" y="40521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0572-28CE-4050-AEEB-756EADB6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99480" y="37335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98600" y="37335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40521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99480" y="40521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98600" y="40521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8F33-5CB1-463B-B41D-2C240BA7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4C3-0108-47C0-A135-FCD9A6A1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CD7-EB11-4FEB-AFFA-C53B3BCF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B77-EF30-4C72-A2B1-2AEADB43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895120"/>
            <a:ext cx="73915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576-473D-4915-8E30-A7AFBBAE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40521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DDF-65BF-42B6-AEA9-A2F9FF63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87560" y="40521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5E8-7C2A-487D-BBEC-87482A95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4052160"/>
            <a:ext cx="7391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52F-CFDE-4B02-8D52-B1242596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CB62-64BF-4DE9-BB92-64A653991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9D11-9F5E-4B7E-90AE-157160305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HerbertSimon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Daniel_KAHNEMAN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391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Century Gothic"/>
              </a:rPr>
              <a:t>Bounded rationality, biases and superstitions </a:t>
            </a:r>
            <a:endParaRPr b="0" lang="en-US" sz="4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581000"/>
            <a:ext cx="73915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Konrad Talmont-Kaminsk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KLI &amp; UMC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Bias &amp; superstitio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When is bias not superstition?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Is a superempirical explanation required?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Is it provided?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Not very deep difference between superstition and other results of bia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Correlations suggest thi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But superstition harder to get rid of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A choice of theorie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Placing heuristic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Dual process theorie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Bounded rationality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Different evaluation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Can not identify superstition with a mode of reasoning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Dual proces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System 1 vs. System 2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Intuitive vs. analytica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Heuristics vs. classical rationality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Assumes independence of system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Problem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Superstition is ubiquitous and persisten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People do not seem to swap into system 2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5681520"/>
            <a:ext cx="7272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J. Evans, “Dual processing accounts of reasoning, judgement, and social cognition” 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Annual Review of Psychology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920" y="907920"/>
            <a:ext cx="144288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Bounded rationality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Heuristics only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But variety of very different heuristic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Heuristics build on each other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Heuristics sometimes replace other heuristic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Scientific methods are heuristic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Problem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How to account for logical ability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Gothic"/>
              </a:rPr>
              <a:t>G. Harman </a:t>
            </a:r>
            <a:r>
              <a:rPr b="1" i="1" lang="en-AU" sz="2000" spc="-1" strike="noStrike">
                <a:solidFill>
                  <a:srgbClr val="ffffff"/>
                </a:solidFill>
                <a:latin typeface="Century Gothic"/>
              </a:rPr>
              <a:t>Change in View</a:t>
            </a:r>
            <a:r>
              <a:rPr b="1" lang="en-AU" sz="2000" spc="-1" strike="noStrike">
                <a:solidFill>
                  <a:srgbClr val="ffffff"/>
                </a:solidFill>
                <a:latin typeface="Century Gothic"/>
              </a:rPr>
              <a:t> 1986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But the same problem for dual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520" y="907920"/>
            <a:ext cx="1428840" cy="2133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5681520"/>
            <a:ext cx="7272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. Simon 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Models of Bounded Rationality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1982/19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entury Gothic"/>
              </a:rPr>
              <a:t>G. Gigerenzer “I think, therefore I err” </a:t>
            </a:r>
            <a:r>
              <a:rPr b="1" i="1" lang="en-AU" sz="1800" spc="-1" strike="noStrike">
                <a:solidFill>
                  <a:srgbClr val="ffffff"/>
                </a:solidFill>
                <a:latin typeface="Century Gothic"/>
              </a:rPr>
              <a:t>Social Research</a:t>
            </a:r>
            <a:r>
              <a:rPr b="1" lang="en-AU" sz="1800" spc="-1" strike="noStrike">
                <a:solidFill>
                  <a:srgbClr val="ffffff"/>
                </a:solidFill>
                <a:latin typeface="Century Gothic"/>
              </a:rPr>
              <a:t>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Hume, habits and heuristic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David Hume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Habits vs. Reaso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The original dual process theory?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But problem of inductio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Only habit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Naturalist vs. sceptical reading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Heuristics as habit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13096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Implication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3 somewhat hypothetical implication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Problem of induction entails we use heuristic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The ubiquity of superstition is evidence for thi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Problem of induction does not entail superstitions but can be seen as the ultimate explanation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8136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Thank you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3573000"/>
            <a:ext cx="7391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konrad@talmont.com</a:t>
            </a:r>
            <a:br>
              <a:rPr sz="2400"/>
            </a:b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http://deisidaimon.wordpress.co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Sugar and cyanid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pic>
        <p:nvPicPr>
          <p:cNvPr id="85" name="" descr="http://www.bestcare-uk.com/shop/image.php?productid=16341"/>
          <p:cNvPicPr/>
          <p:nvPr/>
        </p:nvPicPr>
        <p:blipFill>
          <a:blip r:embed="rId2"/>
          <a:stretch/>
        </p:blipFill>
        <p:spPr>
          <a:xfrm>
            <a:off x="1619280" y="2205000"/>
            <a:ext cx="2351160" cy="2868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http://www.bestcare-uk.com/shop/image.php?productid=16341"/>
          <p:cNvPicPr/>
          <p:nvPr/>
        </p:nvPicPr>
        <p:blipFill>
          <a:blip r:embed="rId3"/>
          <a:stretch/>
        </p:blipFill>
        <p:spPr>
          <a:xfrm>
            <a:off x="6372360" y="2205000"/>
            <a:ext cx="2350800" cy="28684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4500720" y="3645000"/>
            <a:ext cx="1387440" cy="722160"/>
            <a:chOff x="4500720" y="3645000"/>
            <a:chExt cx="1387440" cy="722160"/>
          </a:xfrm>
        </p:grpSpPr>
        <p:pic>
          <p:nvPicPr>
            <p:cNvPr id="88" name="" descr="The image “http://www.uidesign.net/1999/papers/DLP/address18.gif” cannot be displayed, because it contains errors."/>
            <p:cNvPicPr/>
            <p:nvPr/>
          </p:nvPicPr>
          <p:blipFill>
            <a:blip r:embed="rId4"/>
            <a:stretch/>
          </p:blipFill>
          <p:spPr>
            <a:xfrm>
              <a:off x="4500720" y="3645000"/>
              <a:ext cx="138744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 txBox="1"/>
            <p:nvPr/>
          </p:nvSpPr>
          <p:spPr>
            <a:xfrm>
              <a:off x="4621680" y="4008960"/>
              <a:ext cx="1124640" cy="201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yanid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500720" y="2646360"/>
            <a:ext cx="1387440" cy="722160"/>
            <a:chOff x="4500720" y="2646360"/>
            <a:chExt cx="1387440" cy="722160"/>
          </a:xfrm>
        </p:grpSpPr>
        <p:pic>
          <p:nvPicPr>
            <p:cNvPr id="91" name="" descr="The image “http://www.uidesign.net/1999/papers/DLP/address18.gif” cannot be displayed, because it contains errors."/>
            <p:cNvPicPr/>
            <p:nvPr/>
          </p:nvPicPr>
          <p:blipFill>
            <a:blip r:embed="rId5"/>
            <a:stretch/>
          </p:blipFill>
          <p:spPr>
            <a:xfrm>
              <a:off x="4500720" y="2646360"/>
              <a:ext cx="138744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 txBox="1"/>
            <p:nvPr/>
          </p:nvSpPr>
          <p:spPr>
            <a:xfrm>
              <a:off x="4784760" y="2968920"/>
              <a:ext cx="813960" cy="202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Suga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87604E-006 C 0.03368 -0.1043 0.06754 -0.20814 0.11337 -0.182 C 0.1592 -0.15564 0.24844 0.10199 0.27552 0.15888 E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0948 C -0.02448 -0.14871 -0.04862 -0.30643 -0.08889 -0.30458 C -0.12917 -0.30273 -0.21598 -0.0333 -0.24132 0.02104 E">
                                      <p:cBhvr>
                                        <p:cTn id="1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Aim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To show the relevance of work on superstitions as a natural cognitive phenomenon to conceptions of human reasoning abilitie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and vice versa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Outl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Contagion heuristic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Superstitions as result of bia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Dual process vs. bounded rationality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Humean habits &amp; heuristic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Implication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Sympathetic magic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Frazer </a:t>
            </a:r>
            <a:r>
              <a:rPr b="1" i="1" lang="en-AU" sz="2800" spc="-1" strike="noStrike">
                <a:solidFill>
                  <a:srgbClr val="ffffff"/>
                </a:solidFill>
                <a:latin typeface="Century Gothic"/>
              </a:rPr>
              <a:t>Golden Bough</a:t>
            </a: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 1890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Law of similarity (homeopathy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ike produces like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Gothic"/>
              </a:rPr>
              <a:t>Drink blood of an ox to be strong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Law of Contagion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Gothic"/>
              </a:rPr>
              <a:t>Once in contact, always in contact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Gothic"/>
              </a:rPr>
              <a:t>Burn nail clippings to hurt their ‘owner’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Incomplete characterisation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Gothic"/>
              </a:rPr>
              <a:t>Black cats, broken mirrors, etc.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Connection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Homeopathic ‘medicine’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Germ theory of diseas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9" name="" descr="http://cache.eb.com/eb/image?id=24616&amp;rendTypeId=4"/>
          <p:cNvPicPr/>
          <p:nvPr/>
        </p:nvPicPr>
        <p:blipFill>
          <a:blip r:embed="rId2"/>
          <a:stretch/>
        </p:blipFill>
        <p:spPr>
          <a:xfrm>
            <a:off x="179280" y="907920"/>
            <a:ext cx="124776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Contagion as heuristic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Heuristic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A (domain-specific) rule of thumb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Makes sense of the world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Promotes adaptive behaviour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2 differences from ‘classic’ heuristic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Substantive affective componen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People usually aware of irrationality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1208160" cy="1332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1190880" cy="1729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47640" y="568152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entury Gothic"/>
              </a:rPr>
              <a:t>Paul Rozin &amp; Carol Nemeroff “Sympathetic magical thinking” in Gilovich, Griffin, Kahneman eds. </a:t>
            </a:r>
            <a:r>
              <a:rPr b="1" i="1" lang="en-AU" sz="1800" spc="-1" strike="noStrike">
                <a:solidFill>
                  <a:srgbClr val="ffffff"/>
                </a:solidFill>
                <a:latin typeface="Century Gothic"/>
              </a:rPr>
              <a:t>Heuristics &amp; Biases</a:t>
            </a:r>
            <a:r>
              <a:rPr b="1" lang="en-AU" sz="1800" spc="-1" strike="noStrike">
                <a:solidFill>
                  <a:srgbClr val="ffffff"/>
                </a:solidFill>
                <a:latin typeface="Century Gothic"/>
              </a:rPr>
              <a:t>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Heuristics &amp; biase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600200" y="91440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Classic heuristic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Representativenes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Availability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Anchoring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Applying to superstition?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Explaining in terms of bia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Limited possibilitie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568152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entury Gothic"/>
              </a:rPr>
              <a:t>Amos Tversky, Daniel Kahneman “Judgement under uncertainty: heuristics and biases” in </a:t>
            </a:r>
            <a:r>
              <a:rPr b="1" i="1" lang="en-AU" sz="1800" spc="-1" strike="noStrike">
                <a:solidFill>
                  <a:srgbClr val="ffffff"/>
                </a:solidFill>
                <a:latin typeface="Century Gothic"/>
              </a:rPr>
              <a:t>Science 185</a:t>
            </a:r>
            <a:r>
              <a:rPr b="1" lang="en-AU" sz="1800" spc="-1" strike="noStrike">
                <a:solidFill>
                  <a:srgbClr val="ffffff"/>
                </a:solidFill>
                <a:latin typeface="Century Gothic"/>
              </a:rPr>
              <a:t> 197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565360"/>
            <a:ext cx="1204920" cy="1440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79280" y="981000"/>
            <a:ext cx="1179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Re-engineering Superstitio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Broader view of heuristics needed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A philosophical accoun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Emotions as cognitive heuristic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Conflict between ‘innate’ &amp; learned heuristic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Contagion clearly fits i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Systematic bias as footprin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Empirical research projec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5681520"/>
            <a:ext cx="7272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entury Gothic"/>
              </a:rPr>
              <a:t>Bill Wimsatt, </a:t>
            </a:r>
            <a:r>
              <a:rPr b="1" i="1" lang="en-AU" sz="1800" spc="-1" strike="noStrike">
                <a:solidFill>
                  <a:srgbClr val="ffffff"/>
                </a:solidFill>
                <a:latin typeface="Century Gothic"/>
              </a:rPr>
              <a:t>Re-engineering Philosophy for Limited Beings</a:t>
            </a:r>
            <a:r>
              <a:rPr b="1" lang="en-AU" sz="1800" spc="-1" strike="noStrike">
                <a:solidFill>
                  <a:srgbClr val="ffffff"/>
                </a:solidFill>
                <a:latin typeface="Century Gothic"/>
              </a:rPr>
              <a:t>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12891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Systematic bia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Are all bias-caused errors superstitions?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No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What’s the difference?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Are all superstitions bias-caused errors?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Probably, category very broad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Can understand existing work in this theoretical contex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22:15:01Z</dcterms:created>
  <dc:creator>Konrad Talmont-Kaminski</dc:creator>
  <dc:description/>
  <dc:language>en-US</dc:language>
  <cp:lastModifiedBy>Konrad Talmont-Kaminski</cp:lastModifiedBy>
  <dcterms:modified xsi:type="dcterms:W3CDTF">2008-01-23T11:23:40Z</dcterms:modified>
  <cp:revision>23</cp:revision>
  <dc:subject/>
  <dc:title>Bounded rationality, biases and superstitions </dc:title>
</cp:coreProperties>
</file>